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08EBB-3D24-4E63-9650-260E7E7001B6}" type="datetime">
              <a:rPr b="0" lang="en-GB" sz="1200" spc="-1" strike="noStrike">
                <a:solidFill>
                  <a:srgbClr val="000000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37DA0-6BDD-4447-92D8-6A1C462E41D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1B6E2-70B5-4B4A-8114-45A3BB4BD7A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CA209-4E7E-4E3C-B78B-014D9DCE7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EA43E-A195-4B5E-97B1-5E6C33E5F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E326B-47BB-4C59-B722-ECCEF5748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30E08-B2BF-4615-B5E6-47909DA0A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716C0-217F-4D80-AA39-646B1D851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F6FDB-2079-4B10-9B4A-3CEB47C03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54478-E356-45A6-B3A9-4E8E626C0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15FF2-54A6-4CC8-A2A2-00E06138D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3B3C2-C945-4FEB-9286-93B8A611D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0EE14-ADB4-4876-BE24-E9765B547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7F28C-BF58-40FB-8DD0-9E5826A95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61292-F2AE-41B0-9328-B8BCD2386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BC9BD-4D59-4B57-8DC0-2DDD751E8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B4470-3D61-4A45-A5BE-EF1122125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5BDFF-7BC9-417A-9E60-8623FA709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9B876-E813-49C3-8391-37A385C12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86C42-626D-4F65-8462-9AE18B712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19FE7D-AB23-4928-AA76-BBFBC24DB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A965CA-8579-49C9-AF18-4BEEE19BC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8C6308-FBBF-444E-8AC6-705AD9DD8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DC9D70-914E-4872-93A3-52C7A98EC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74B508-D2CA-4803-BF25-7BF2C6B83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F43CD-0ABB-468F-AB56-355615762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D35828-9CAC-4E83-8B1E-E0B884F96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129F71-12F9-4EE2-932D-7FF8E2A21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B81486-E2F8-4321-ABAC-1F3DD55F3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87F1F2-A999-45D0-9CB1-DD256EA89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EA0318-BEC6-4599-AE6F-AB2CF66C2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67AE7D-8E69-49CC-BD22-F5650F808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DF071A-9F8F-46DB-9960-6F3C8A68E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536318-27A4-4253-A038-33C1D03D9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86A97C-B48C-496A-AA1E-93851290B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EC7F98-B251-4202-B5A3-AA042048B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1E9FE-874E-4A79-8D17-5B6923841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5068B5-6D3F-4359-8A90-B8A103618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D8A453-6F9A-4967-B819-1F583E6B7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160AB3-9288-45DA-87DD-C9CFAD077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ABD1CE-9F1E-401F-9CF3-5018BB41F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7A2A78-58D7-4196-A1D8-455781615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671F1D-384F-42F6-8B8E-D4BEBC047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D7C302-8805-4EEF-BBA4-034A635FB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EC0442-EF1C-48AC-A459-0F70F17BF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38D177-4F77-4EBD-A209-6FBF9D9F5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0586A-218A-447A-8851-035B4DF87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5F3D1-F053-4ECB-8524-1FF31125E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30123-DF92-44D2-B4E3-785AEB283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231A3-3D9B-486F-9B3B-668808E6A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63B03-2BC3-4AE4-94F2-9B0CD0790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71FAC-DD4D-4F58-8665-905BA0A8A382}" type="datetime">
              <a:rPr b="0" lang="en-US" sz="1200" spc="-1" strike="noStrike">
                <a:solidFill>
                  <a:srgbClr val="045c75"/>
                </a:solidFill>
                <a:latin typeface="Constanti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15740-F855-4F43-99C7-4786AFF5A698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5043E-B0B0-4F6D-9795-DDBF534878F1}" type="datetime">
              <a:rPr b="0" lang="en-US" sz="1200" spc="-1" strike="noStrike">
                <a:solidFill>
                  <a:srgbClr val="d1eaee"/>
                </a:solidFill>
                <a:latin typeface="Constanti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BFAAF-A6FC-4BFC-9CC5-547C2CBAFCAC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5A8ED-AEE8-4E39-A61B-AF8E4E1F595F}" type="datetime">
              <a:rPr b="0" lang="en-US" sz="1200" spc="-1" strike="noStrike">
                <a:solidFill>
                  <a:srgbClr val="d1eaee"/>
                </a:solidFill>
                <a:latin typeface="Constanti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6C71A-7BDA-4D30-B715-2938DCB5FBA1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80808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FDE96-BF1B-4CB5-B50A-3B5A83696824}" type="datetime">
              <a:rPr b="0" lang="en-US" sz="1200" spc="-1" strike="noStrike">
                <a:solidFill>
                  <a:srgbClr val="045c75"/>
                </a:solidFill>
                <a:latin typeface="Constanti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D95DC-52B3-4C3D-9C09-E8F14C4C8544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newsobserver.com/weather/drought/story/1016009.html" TargetMode="Externa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Title 1" descr=""/>
          <p:cNvPicPr/>
          <p:nvPr/>
        </p:nvPicPr>
        <p:blipFill>
          <a:blip r:embed="rId2"/>
          <a:stretch/>
        </p:blipFill>
        <p:spPr>
          <a:xfrm>
            <a:off x="530280" y="1365120"/>
            <a:ext cx="7888320" cy="195768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J Development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4" name="TextBox 3" descr=""/>
          <p:cNvPicPr/>
          <p:nvPr/>
        </p:nvPicPr>
        <p:blipFill>
          <a:blip r:embed="rId3"/>
          <a:stretch/>
        </p:blipFill>
        <p:spPr>
          <a:xfrm>
            <a:off x="2664000" y="4413240"/>
            <a:ext cx="3743280" cy="92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4617b"/>
                </a:solidFill>
                <a:latin typeface="Calibri"/>
              </a:rPr>
              <a:t>Surface Area of Tank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457200" y="1752480"/>
          <a:ext cx="8305920" cy="4645080"/>
        </p:xfrm>
        <a:graphic>
          <a:graphicData uri="http://schemas.openxmlformats.org/drawingml/2006/table">
            <a:tbl>
              <a:tblPr/>
              <a:tblGrid>
                <a:gridCol w="838080"/>
                <a:gridCol w="1067040"/>
                <a:gridCol w="758880"/>
                <a:gridCol w="993600"/>
                <a:gridCol w="914400"/>
                <a:gridCol w="1219320"/>
                <a:gridCol w="1365120"/>
                <a:gridCol w="1149480"/>
              </a:tblGrid>
              <a:tr h="422280"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adius (m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ase Area (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m</a:t>
                      </a:r>
                      <a:r>
                        <a:rPr b="0" lang="en-GB" sz="1000" spc="-1" strike="noStrike" baseline="30000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2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eight (m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A (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m</a:t>
                      </a:r>
                      <a:r>
                        <a:rPr b="0" lang="en-GB" sz="1000" spc="-1" strike="noStrike" baseline="30000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2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TSA (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m</a:t>
                      </a:r>
                      <a:r>
                        <a:rPr b="0" lang="en-GB" sz="1000" spc="-1" strike="noStrike" baseline="30000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2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st of Metal ($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st of Concrete ($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otal Cost ($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2280"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3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48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4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8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1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2280"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4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5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56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12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269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2280"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dd9"/>
                    </a:solidFill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dd9"/>
                    </a:solidFill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dd9"/>
                    </a:solidFill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dd9"/>
                    </a:solidFill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dd9"/>
                    </a:solidFill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dd9"/>
                    </a:solidFill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37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dd9"/>
                    </a:solidFill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7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dd9"/>
                    </a:solidFill>
                  </a:tcPr>
                </a:tc>
              </a:tr>
              <a:tr h="422280"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bd0d9"/>
                    </a:solidFill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bd0d9"/>
                    </a:solidFill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bd0d9"/>
                    </a:solidFill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7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bd0d9"/>
                    </a:solidFill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bd0d9"/>
                    </a:solidFill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8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bd0d9"/>
                    </a:solidFill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43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bd0d9"/>
                    </a:solidFill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33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bd0d9"/>
                    </a:solidFill>
                  </a:tcPr>
                </a:tc>
              </a:tr>
              <a:tr h="422280"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9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7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25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2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65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2280"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04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9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10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2280"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142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655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2280"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4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77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31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2280"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87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47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065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2280"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4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6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4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266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913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4617b"/>
                </a:solidFill>
                <a:latin typeface="Calibri"/>
              </a:rPr>
              <a:t>Justificat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2209320"/>
            <a:ext cx="77709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Viability vs. Cos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s it really that good to have a 26m structure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s it </a:t>
            </a:r>
            <a:r>
              <a:rPr b="0" i="1" lang="en-GB" sz="2400" spc="-1" strike="noStrike">
                <a:solidFill>
                  <a:srgbClr val="000000"/>
                </a:solidFill>
                <a:latin typeface="Constantia"/>
              </a:rPr>
              <a:t>possible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 to have a 26m structure that will hold its weight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Amount of water used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L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eeway for water use of people in case they need more water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Level of Accuracy (nearest whole number)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E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asier to see the difference between figur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4617b"/>
                </a:solidFill>
                <a:latin typeface="Calibri"/>
              </a:rPr>
              <a:t>Our Storage Tank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H</a:t>
            </a: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as a capacity of 742 000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Is in the shape of a cylinde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Dimensions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Radius: 4 metr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Height: 15 metr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Title 5" descr=""/>
          <p:cNvPicPr/>
          <p:nvPr/>
        </p:nvPicPr>
        <p:blipFill>
          <a:blip r:embed="rId2"/>
          <a:stretch/>
        </p:blipFill>
        <p:spPr>
          <a:xfrm>
            <a:off x="476280" y="1311120"/>
            <a:ext cx="7832520" cy="1492560"/>
          </a:xfrm>
          <a:prstGeom prst="rect">
            <a:avLst/>
          </a:prstGeom>
          <a:ln w="0">
            <a:noFill/>
          </a:ln>
        </p:spPr>
      </p:pic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530280" y="270504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4617b"/>
                </a:solidFill>
                <a:latin typeface="Calibri"/>
              </a:rPr>
              <a:t>Starting Question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W</a:t>
            </a: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hat kind of grain are we storing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H</a:t>
            </a: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ow much grain are we putting in storage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What kind of shape is the best for storing the grain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4617b"/>
                </a:solidFill>
                <a:latin typeface="Calibri"/>
              </a:rPr>
              <a:t>Answering Question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W</a:t>
            </a: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hat kind of grain are we storing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G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rain can be used to make many types of food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Rice, corn, oats, ry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Bread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r our purposes, we’ll pretend that we’re storing ric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4617b"/>
                </a:solidFill>
                <a:latin typeface="Calibri"/>
              </a:rPr>
              <a:t>Answering Question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How much grain are we putting in storage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he space that the cooked rice takes up is 3-4 times the space that uncooked rice takes up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Each person eats about 300cm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nstanti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of cooked rice per meal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300cm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nstanti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of cooked rice ≈ 100c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nstanti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of uncooked ric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4617b"/>
                </a:solidFill>
                <a:latin typeface="Calibri"/>
              </a:rPr>
              <a:t>Answering Question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What kind of shape is best for storing the grain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Real life exampl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Cylinder has the largest area for a fixed perimeter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Cylinders are also used for silo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4617b"/>
                </a:solidFill>
                <a:latin typeface="Calibri"/>
              </a:rPr>
              <a:t>Examples of Grain Storag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39" name="Content Placeholder 10" descr="silos and lorry.JPG"/>
          <p:cNvPicPr/>
          <p:nvPr/>
        </p:nvPicPr>
        <p:blipFill>
          <a:blip r:embed="rId2"/>
          <a:srcRect l="0" t="-17698" r="0" b="-17698"/>
          <a:stretch/>
        </p:blipFill>
        <p:spPr>
          <a:xfrm>
            <a:off x="457200" y="1920960"/>
            <a:ext cx="4038480" cy="4433760"/>
          </a:xfrm>
          <a:prstGeom prst="rect">
            <a:avLst/>
          </a:prstGeom>
          <a:ln w="0">
            <a:noFill/>
          </a:ln>
        </p:spPr>
      </p:pic>
      <p:pic>
        <p:nvPicPr>
          <p:cNvPr id="240" name="Content Placeholder 11" descr="hog grain storage.jpg"/>
          <p:cNvPicPr/>
          <p:nvPr/>
        </p:nvPicPr>
        <p:blipFill>
          <a:blip r:embed="rId3"/>
          <a:srcRect l="0" t="-24477" r="0" b="-24477"/>
          <a:stretch/>
        </p:blipFill>
        <p:spPr>
          <a:xfrm>
            <a:off x="4648320" y="1920960"/>
            <a:ext cx="4038480" cy="4433760"/>
          </a:xfrm>
          <a:prstGeom prst="rect">
            <a:avLst/>
          </a:prstGeom>
          <a:ln w="0">
            <a:noFill/>
          </a:ln>
        </p:spPr>
      </p:pic>
      <p:sp>
        <p:nvSpPr>
          <p:cNvPr id="241" name="TextBox 8"/>
          <p:cNvSpPr/>
          <p:nvPr/>
        </p:nvSpPr>
        <p:spPr>
          <a:xfrm>
            <a:off x="685800" y="5791320"/>
            <a:ext cx="3581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http://www.dengie-crops.com/media/silos%20and%20lorry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Box 9"/>
          <p:cNvSpPr/>
          <p:nvPr/>
        </p:nvSpPr>
        <p:spPr>
          <a:xfrm>
            <a:off x="4724280" y="5629320"/>
            <a:ext cx="373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http://www.mawaterquality.org/gallery/photos/hog%20grain%20storage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4617b"/>
                </a:solidFill>
                <a:latin typeface="Calibri"/>
              </a:rPr>
              <a:t>Calculat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100cm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nstantia"/>
              </a:rPr>
              <a:t>3  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uncooked rice × 3 meals × 4 people × 50 families × 14 days = 840 000 cm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nstantia"/>
              </a:rPr>
              <a:t>3 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of uncooked ric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840 000cm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nstantia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 = 0.84m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nstanti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</a:t>
            </a: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hed has to have a volume of 0.84m</a:t>
            </a:r>
            <a:r>
              <a:rPr b="0" lang="en-GB" sz="2600" spc="-1" strike="noStrike" baseline="30000">
                <a:solidFill>
                  <a:srgbClr val="000000"/>
                </a:solidFill>
                <a:latin typeface="Constantia"/>
              </a:rPr>
              <a:t>3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4617b"/>
                </a:solidFill>
                <a:latin typeface="Calibri"/>
              </a:rPr>
              <a:t>Our Proces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Research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Consolida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Answer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4617b"/>
                </a:solidFill>
                <a:latin typeface="Calibri"/>
              </a:rPr>
              <a:t>*this is where a table will go*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4617b"/>
                </a:solidFill>
                <a:latin typeface="Calibri"/>
              </a:rPr>
              <a:t>This is where our answer will go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4617b"/>
                </a:solidFill>
                <a:latin typeface="Calibri"/>
              </a:rPr>
              <a:t>Justificat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‘</a:t>
            </a: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cause like, it just is, man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(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-.- no, not really.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</a:t>
            </a: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his is where we write a justification that is not yet thought of.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</a:t>
            </a: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 mean, we have to think about it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4617b"/>
                </a:solidFill>
                <a:latin typeface="Calibri"/>
              </a:rPr>
              <a:t>How many people in a family?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2.61 children born/woman</a:t>
            </a: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 (CIA World Factbook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R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ound down to 2 childre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dd 2 parent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E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quals </a:t>
            </a:r>
            <a:r>
              <a:rPr b="1" lang="en-GB" sz="2400" spc="-1" strike="noStrike">
                <a:solidFill>
                  <a:srgbClr val="000000"/>
                </a:solidFill>
                <a:latin typeface="Constantia"/>
              </a:rPr>
              <a:t>4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 people in a family!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Title 3" descr=""/>
          <p:cNvPicPr/>
          <p:nvPr/>
        </p:nvPicPr>
        <p:blipFill>
          <a:blip r:embed="rId2"/>
          <a:stretch/>
        </p:blipFill>
        <p:spPr>
          <a:xfrm>
            <a:off x="476280" y="1311120"/>
            <a:ext cx="7832520" cy="149256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530280" y="270504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4617b"/>
                </a:solidFill>
                <a:latin typeface="Calibri"/>
              </a:rPr>
              <a:t>Starting Question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How much water does each person use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What do we use water for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What is the best shape to store water in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4617b"/>
                </a:solidFill>
                <a:latin typeface="Calibri"/>
              </a:rPr>
              <a:t>Answering Question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What do we use water for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D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rinking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B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athing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W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ashing (dishes, laundry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oilet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Cooking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4617b"/>
                </a:solidFill>
                <a:latin typeface="Calibri"/>
              </a:rPr>
              <a:t>Answering Question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2286000"/>
            <a:ext cx="777096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How much water does an average person use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nstantia"/>
              </a:rPr>
              <a:t>Internet research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e2d700"/>
                </a:solidFill>
                <a:uFillTx/>
                <a:latin typeface="Constantia"/>
                <a:hlinkClick r:id="rId2"/>
              </a:rPr>
              <a:t>http://www.newsobserver.com/weather/drought/story/1016009.html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69.3 gallons per person for indoor purpose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90000"/>
              </a:lnSpc>
              <a:spcBef>
                <a:spcPts val="476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laundry, shower, toilets, cooking, drinking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Convert into litre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1 gallon = 3.78541178 litres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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 69.3 gallons ≈</a:t>
            </a:r>
            <a:r>
              <a:rPr b="0" lang="en-US" sz="2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ＭＳ ゴシック"/>
              </a:rPr>
              <a:t>263 litre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90000"/>
              </a:lnSpc>
              <a:spcBef>
                <a:spcPts val="476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nstantia"/>
                <a:ea typeface="ＭＳ ゴシック"/>
              </a:rPr>
              <a:t>Leeway: 263 ± 2 litres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Answering Question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W</a:t>
            </a: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hat is the best shape to store water in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4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Perimeter and Circumference vs. Area (of 2-D objects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4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Circle vs. Squar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4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Real life example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4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nstantia"/>
              </a:rPr>
              <a:t>A cylinder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is the best shape to store water in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9" name="Content Placeholder 5" descr="{72ED8FC0-2FE1-4FAB-AAE2-484FF1A30A82}.JPG"/>
          <p:cNvPicPr/>
          <p:nvPr/>
        </p:nvPicPr>
        <p:blipFill>
          <a:blip r:embed="rId2"/>
          <a:srcRect l="-19287" t="0" r="-19287" b="0"/>
          <a:stretch/>
        </p:blipFill>
        <p:spPr>
          <a:xfrm>
            <a:off x="4648320" y="1920960"/>
            <a:ext cx="4038480" cy="44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4617b"/>
                </a:solidFill>
                <a:latin typeface="Calibri"/>
              </a:rPr>
              <a:t>Calculat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</a:t>
            </a: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otal amount of water needed for entire village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265L × 4 people × 50 families × 14 days = 742 000L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Volume of storage tank: 742 000L of water = 742 m</a:t>
            </a:r>
            <a:r>
              <a:rPr b="0" lang="en-GB" sz="2600" spc="-1" strike="noStrike" baseline="30000">
                <a:solidFill>
                  <a:srgbClr val="000000"/>
                </a:solidFill>
                <a:latin typeface="Constantia"/>
              </a:rPr>
              <a:t>3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This estimation has more water capacity than is necessary because there is an extra 2 litres for every pers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30T11:12:13Z</dcterms:created>
  <dc:creator>Cara Leong</dc:creator>
  <dc:description/>
  <dc:language>en-US</dc:language>
  <cp:lastModifiedBy>Cara Leong</cp:lastModifiedBy>
  <dcterms:modified xsi:type="dcterms:W3CDTF">2008-11-30T11:53:36Z</dcterms:modified>
  <cp:revision>12</cp:revision>
  <dc:subject/>
  <dc:title>Storage Facilities</dc:title>
</cp:coreProperties>
</file>